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35.wmf" ContentType="image/x-wmf"/>
  <Override PartName="/ppt/media/image5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8.wmf" ContentType="image/x-wmf"/>
  <Override PartName="/ppt/media/image37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43.wmf" ContentType="image/x-wmf"/>
  <Override PartName="/ppt/media/image46.jpeg" ContentType="image/jpeg"/>
  <Override PartName="/ppt/media/image54.png" ContentType="image/png"/>
  <Override PartName="/ppt/media/image42.wmf" ContentType="image/x-wmf"/>
  <Override PartName="/ppt/media/image47.jpeg" ContentType="image/jpeg"/>
  <Override PartName="/ppt/media/image48.png" ContentType="image/png"/>
  <Override PartName="/ppt/media/image33.wmf" ContentType="image/x-wmf"/>
  <Override PartName="/ppt/media/image12.jpeg" ContentType="image/jpeg"/>
  <Override PartName="/ppt/media/image45.jpeg" ContentType="image/jpeg"/>
  <Override PartName="/ppt/media/image50.jpeg" ContentType="image/jpeg"/>
  <Override PartName="/ppt/media/image52.png" ContentType="image/png"/>
  <Override PartName="/ppt/media/image49.jpeg" ContentType="image/jpeg"/>
  <Override PartName="/ppt/media/image51.png" ContentType="image/png"/>
  <Override PartName="/ppt/media/image34.wmf" ContentType="image/x-wmf"/>
  <Override PartName="/ppt/media/image53.png" ContentType="image/png"/>
  <Override PartName="/ppt/media/image55.jpeg" ContentType="image/jpeg"/>
  <Override PartName="/ppt/media/image39.jpeg" ContentType="image/jpeg"/>
  <Override PartName="/ppt/media/image38.png" ContentType="image/png"/>
  <Override PartName="/ppt/media/image36.png" ContentType="image/png"/>
  <Override PartName="/ppt/media/image31.wmf" ContentType="image/x-wmf"/>
  <Override PartName="/ppt/media/image30.wmf" ContentType="image/x-wmf"/>
  <Override PartName="/ppt/media/image13.jpeg" ContentType="image/jpeg"/>
  <Override PartName="/ppt/media/image44.png" ContentType="image/png"/>
  <Override PartName="/ppt/media/image40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F9C-DD81-4794-867C-CA2CFC1D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04D-F7FE-42FB-9412-5EE1FAE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D50E8-B20C-41C0-8772-D45EC945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D8F4-A6A9-451B-B554-F8CD7B9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F4151-BD68-4A58-9C9A-223A64D6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97908-5111-47E6-820D-E00B2A1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1F98C-183B-42CB-9B2E-BCA21D7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A95D8-7F84-4651-A119-AA02E7D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91AFF-D0D5-4463-A5B2-FCC5998A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20C5A-C239-48DB-880D-DA2325EE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28B7A-EA17-45E9-8C00-D2E94DCF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260-031A-415A-A0C9-AF65C203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A23-AA4E-48F1-9986-C347D899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08E1-F7D4-4793-9DCB-75CC23D7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66C0-E2E5-4A54-A13D-B8CD4AEE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84E0-968E-421D-A26B-B4A33D49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26E4-E7C5-44BA-9FFA-471F20F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E99A-003D-42F2-A003-2CB83F3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4F01-79EC-4396-9604-CA786E9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459F-A505-4686-965D-058565D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9A8-528D-4620-AC06-BB74353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61C1-0C55-477D-B07A-4E4C2E0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E1E-545F-486A-9D8F-B1A94722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A40-F081-4176-93C6-31DFD20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6EB3-E74E-42F0-B7AF-88407168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C660-A380-4506-AF57-35B4C550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EE20-C1D6-4E0B-BD89-2BBF9404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A736-F8DC-4B29-B873-CFA634A1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5863-1A2D-49C2-B115-CB8E9838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FD3A-EADF-410F-9155-24CAFCE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F3F8-81C4-4D24-9FE1-46829674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FB1-6162-40A3-8FE9-54C1A28A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E3D7-6419-47A1-AF2B-B4459038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4447-DE9C-48E2-B5D6-32071B8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4A2F-77EF-4C01-BC31-339861A4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1000-69D1-43C7-9146-1CC6DA6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2B7F-89A3-4844-B8D9-D27481A9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93C7-E46A-4905-B87D-8BC59C17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77C7-4CE6-4E93-B465-6B66F72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AF786-7424-485A-AC7B-F33D546B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5198-8A83-41A9-B695-10A7DA2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6CD5-36C1-4310-A423-C241F8DD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9A4-A054-4FDB-BC49-C2704984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E4DC-933D-4FB3-B3A8-A77BE4C4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3D55-9113-41E7-928D-B8A46E5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C192-798A-4FA5-9725-C29E9983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944E-1861-45D5-B198-6BDE2EB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6A6B-CCF2-4D92-A024-21387F26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9873-4DDC-4B49-84F8-CFA4E2F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56AA-C602-48E9-91C0-0C86B6C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D390-F2CC-4297-8C31-FC1D45ED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2C4B-FE61-4D05-9292-A732F490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441B-AE2F-4A64-8FCD-B3D25166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3B6-4024-4B07-96A2-563D78B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1584-D254-4F82-9270-4A20A1C9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A9F7-3788-4FC3-85CF-F126DD68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3D565-4625-4665-93A4-D0A3BEAD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1654-94C0-4C69-9F1D-AD248D71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68983-263B-4791-89A0-5D4F34D1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97116-AC46-4D00-A612-4F907D3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4505-F8F2-4290-81F1-B9F65AB5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51EE2-F651-46A7-87EB-94CF753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749D-0545-448B-8229-294CA69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F3A67-0362-40ED-94CE-F1C41476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FA6-3D13-4CB5-9C57-7DFACB8F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BE37-1246-4FA0-B1FE-05C150BB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21AA-749C-40B0-9120-C21C6333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9AF2-2266-4383-AE34-FFD6E434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5371-7024-4411-B65F-D980DFBA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CCB0-9B2B-4B16-8CE3-91AC7286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2CC3-65EA-40E9-B60B-5AA63BDA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8F30-F168-4BDB-BFE2-408E3B0F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BEACC-1240-49D8-B22C-DC5302CA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EC05B-2F93-4210-BD8C-2AFD0BB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1645-5C56-4B89-BE0E-FAF15C90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0DF-0485-4547-BE31-EE8D2B3D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8FC8-273B-4EE9-9591-8B14A637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30219-F519-4CA3-A05E-2921E7C9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521B-4418-4D9B-8812-C4950D81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7AA8-2E20-49CB-ADE1-33644F41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C6B7-041E-4892-ABD5-2510EF7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27F1-2B45-407B-B0D0-6044DFC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427E0-78F0-4CE0-9911-D0B99446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BD95-EA20-4696-AA91-B505F60E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8E0D9-34E3-407B-A0B8-6CA34669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4E2FD-D681-4229-8C55-4BA6450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383-7135-4CDC-8944-4B52F786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7B0D-A757-4ECC-BADE-43260454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6BE7-B822-4811-ADA4-9C58737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392D6-2EF5-4A6E-9D23-D175530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8D98-348B-4DA5-A190-3EA0E926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13E42-7F70-465D-BFF4-B2605240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1131D-2F09-4C4D-802B-5F8CE316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D1BA6-A1FE-422E-84F6-B16CD7C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D971-E4F8-40FE-9084-A26A65A9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768BB-5410-472A-AD0B-73A2116F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A0B19-BA29-4DB9-BF40-0EAED4FD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A5E-1E05-4953-ADB0-84ADE0E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30EC5-1BE4-4CE1-9B83-89D8D39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1E556-0919-4E00-9CB8-A100B4C4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7664-BD14-4285-9D67-1C842D9F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B1131-632C-4A06-85A7-1BA94B6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94610-F926-47CF-8C35-6C48B956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2946-514A-4A2B-9E5E-71ED3B54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44988-8F00-44A2-A06C-640533E0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87120-E533-4285-A923-CB6F0A9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7121E-6CBC-42F3-9A41-49BD3BA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7E02-6970-4E8B-9C7E-F332028A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AF11-B996-4762-AFC0-C997A2AC4E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17BF-EE15-4FE8-97B0-63EC0143C77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092-56C9-4910-95FC-ED422CFCA07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4A44-6AD0-4A9E-BCBA-F2CC3902977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8C19-EAE9-4954-8449-8ABD9F0B05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6BE-6E9E-4094-A051-A784B06D83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605-7A90-4089-A9DD-50E5EB6C8D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0911-162F-4FD6-89A6-424C605A0C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854-CF7B-434E-BEDA-21E2C912A6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5.wmf"/><Relationship Id="rId9" Type="http://schemas.openxmlformats.org/officeDocument/2006/relationships/image" Target="../media/image55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2"/>
          <a:stretch/>
        </p:blipFill>
        <p:spPr>
          <a:xfrm>
            <a:off x="237960" y="4784760"/>
            <a:ext cx="8607600" cy="13604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3329"/>
                </a:solidFill>
                <a:latin typeface="Times New Roman"/>
              </a:rPr>
              <a:t>Canada and Saskatchewan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1" name="Picture 2" descr="C:\Documents and Settings\Owner\Local Settings\Temporary Internet Files\Content.IE5\4NWD2U1B\MPj04032500000[1].jpg"/>
          <p:cNvPicPr/>
          <p:nvPr/>
        </p:nvPicPr>
        <p:blipFill>
          <a:blip r:embed="rId3"/>
          <a:stretch/>
        </p:blipFill>
        <p:spPr>
          <a:xfrm>
            <a:off x="2614680" y="685800"/>
            <a:ext cx="3914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Union of four colonies: Ontario, Quebec, Nova Scotia &amp; New Brunswick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British North America Act (Canadian Constitution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inority faith provisions – Sec. 93 Education placed in provincial jurisdic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Quebec – dual confessional model with separate structures for Catholic &amp; Protestant system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Ontario – non-sectarian state school system with minority faith schools. Model for Saskatchewa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37" name="Picture 2" descr="C:\Documents and Settings\Owner\Local Settings\Temporary Internet Files\Content.IE5\WX21GTW0\MCj01569290000[1].wmf"/>
          <p:cNvPicPr/>
          <p:nvPr/>
        </p:nvPicPr>
        <p:blipFill>
          <a:blip r:embed="rId3"/>
          <a:stretch/>
        </p:blipFill>
        <p:spPr>
          <a:xfrm>
            <a:off x="6934320" y="175248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C:\Documents and Settings\Owner\Local Settings\Temporary Internet Files\Content.IE5\PIZ49X1L\MCj01569270000[1].wmf"/>
          <p:cNvPicPr/>
          <p:nvPr/>
        </p:nvPicPr>
        <p:blipFill>
          <a:blip r:embed="rId4"/>
          <a:stretch/>
        </p:blipFill>
        <p:spPr>
          <a:xfrm>
            <a:off x="4876920" y="1828800"/>
            <a:ext cx="1820880" cy="1790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Documents and Settings\Owner\Local Settings\Temporary Internet Files\Content.IE5\SVQSRMMS\MCj01569370000[1].wmf"/>
          <p:cNvPicPr/>
          <p:nvPr/>
        </p:nvPicPr>
        <p:blipFill>
          <a:blip r:embed="rId5"/>
          <a:stretch/>
        </p:blipFill>
        <p:spPr>
          <a:xfrm>
            <a:off x="7010280" y="3962520"/>
            <a:ext cx="1820880" cy="1827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:\Documents and Settings\Owner\Local Settings\Temporary Internet Files\Content.IE5\YW5CV2IN\MCj01569350000[1].wmf"/>
          <p:cNvPicPr/>
          <p:nvPr/>
        </p:nvPicPr>
        <p:blipFill>
          <a:blip r:embed="rId6"/>
          <a:stretch/>
        </p:blipFill>
        <p:spPr>
          <a:xfrm>
            <a:off x="4876920" y="3962520"/>
            <a:ext cx="1873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N.A Act, 1867 (Constitution Act, 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457200" y="2057400"/>
            <a:ext cx="205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tion 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arlia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of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m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orc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sidual po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3276720" y="2057400"/>
            <a:ext cx="198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tion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Provi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Legisl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6095880" y="2057400"/>
            <a:ext cx="24386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Section 9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b050"/>
                </a:solidFill>
                <a:latin typeface="Times New Roman"/>
              </a:rPr>
              <a:t>Edu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vinces exclusive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ke la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nominational Righ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medial Power of Parliament of Can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ducation Act and Regu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C:\Documents and Settings\Owner\Local Settings\Temporary Internet Files\Content.IE5\A8FN2AXY\MCFL00338_0000[1].wmf"/>
          <p:cNvPicPr/>
          <p:nvPr/>
        </p:nvPicPr>
        <p:blipFill>
          <a:blip r:embed="rId2"/>
          <a:stretch/>
        </p:blipFill>
        <p:spPr>
          <a:xfrm>
            <a:off x="3581280" y="1066680"/>
            <a:ext cx="1447920" cy="1030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Owner\Local Settings\Temporary Internet Files\Content.IE5\A8FN2AXY\MCFL00338_0000[1].wmf"/>
          <p:cNvPicPr/>
          <p:nvPr/>
        </p:nvPicPr>
        <p:blipFill>
          <a:blip r:embed="rId3"/>
          <a:stretch/>
        </p:blipFill>
        <p:spPr>
          <a:xfrm>
            <a:off x="6553080" y="1066680"/>
            <a:ext cx="1447920" cy="1030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Owner\Local Settings\Temporary Internet Files\Content.IE5\WX21GTW0\MCFL00366_0000[1].wmf"/>
          <p:cNvPicPr/>
          <p:nvPr/>
        </p:nvPicPr>
        <p:blipFill>
          <a:blip r:embed="rId4"/>
          <a:stretch/>
        </p:blipFill>
        <p:spPr>
          <a:xfrm>
            <a:off x="838080" y="1066680"/>
            <a:ext cx="1371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Roman Catholic, Francophone and Metis – provision for minority faith educa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Dual Confessional Model (control of Roman Catholic system separate from provincial government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Settlement of Manitoba by English speaking settler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oncern that new immigrants – Ukrainian, etc. – learn English language and culture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anitoba government removes minority faith protec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50" name="Content Placeholder 4" descr="Manitoba Leg.jpg"/>
          <p:cNvPicPr/>
          <p:nvPr/>
        </p:nvPicPr>
        <p:blipFill>
          <a:blip r:embed="rId3"/>
          <a:stretch/>
        </p:blipFill>
        <p:spPr>
          <a:xfrm>
            <a:off x="5251320" y="1612800"/>
            <a:ext cx="31370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anitoba’s Roman Catholics appeal to Canadian government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onservative Prime Minister Mackenzie Bowell (from Ontario) supports their claim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Opposition leader Wilfred Laurier, Quebec Francophone, supports Manitoba provincial government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Laurier wins the General Elec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Loss of Minority Faith Right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53" name="Content Placeholder 4" descr="Mackenzie Bowell.jpg"/>
          <p:cNvPicPr/>
          <p:nvPr/>
        </p:nvPicPr>
        <p:blipFill>
          <a:blip r:embed="rId3"/>
          <a:stretch/>
        </p:blipFill>
        <p:spPr>
          <a:xfrm>
            <a:off x="6172200" y="144792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wilfred laurier.jpg"/>
          <p:cNvPicPr/>
          <p:nvPr/>
        </p:nvPicPr>
        <p:blipFill>
          <a:blip r:embed="rId4"/>
          <a:stretch/>
        </p:blipFill>
        <p:spPr>
          <a:xfrm>
            <a:off x="6172200" y="365760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2"/>
          <a:stretch/>
        </p:blipFill>
        <p:spPr>
          <a:xfrm>
            <a:off x="225360" y="450720"/>
            <a:ext cx="8772480" cy="854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Dual Confessional Model (control of Roman Catholic system separate from provincial government) in the North West Territories (NWT) – 1885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NWT Assembly moves to Ontario Model (non-sectarian state school system with minority faith schools) – 1892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1905 – debate over admission of Saskatchewan and Alberta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Prime Minister Laurier proposes return to Dual Confessional Model – 1885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Roman Catholic Church and Quebec unhappy – Manitoba School Question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57" name="Picture 2" descr="C:\Documents and Settings\Owner\Local Settings\Temporary Internet Files\Content.IE5\4NWD2U1B\MCj01569250000[1].wmf"/>
          <p:cNvPicPr/>
          <p:nvPr/>
        </p:nvPicPr>
        <p:blipFill>
          <a:blip r:embed="rId3"/>
          <a:stretch/>
        </p:blipFill>
        <p:spPr>
          <a:xfrm>
            <a:off x="5867280" y="4267080"/>
            <a:ext cx="1820880" cy="1778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Owner\Local Settings\Temporary Internet Files\Content.IE5\PIZ49X1L\MCj01569230000[1].wmf"/>
          <p:cNvPicPr/>
          <p:nvPr/>
        </p:nvPicPr>
        <p:blipFill>
          <a:blip r:embed="rId4"/>
          <a:stretch/>
        </p:blipFill>
        <p:spPr>
          <a:xfrm>
            <a:off x="5867280" y="1752480"/>
            <a:ext cx="1820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itle 1" descr=""/>
          <p:cNvPicPr/>
          <p:nvPr/>
        </p:nvPicPr>
        <p:blipFill>
          <a:blip r:embed="rId2"/>
          <a:stretch/>
        </p:blipFill>
        <p:spPr>
          <a:xfrm>
            <a:off x="225360" y="450720"/>
            <a:ext cx="8772480" cy="8542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ajor crisis – Clifford Sifton, NWT MP, and prominent member of Laurier’s Cabinet, resign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Longest debate in the House of Commons – third longest in history of Canadian Parliament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Prime Minister Laurier relents – adopts non-sectarian state school system with minority faith schools already in place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urrent system – provincial Ministry of Education and minority faith schools (Regina Public and Regina Catholic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61" name="Content Placeholder 4" descr="clifford sifton.jpg"/>
          <p:cNvPicPr/>
          <p:nvPr/>
        </p:nvPicPr>
        <p:blipFill>
          <a:blip r:embed="rId3"/>
          <a:stretch/>
        </p:blipFill>
        <p:spPr>
          <a:xfrm>
            <a:off x="5943600" y="1676520"/>
            <a:ext cx="1324080" cy="1523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sask leg.jpg"/>
          <p:cNvPicPr/>
          <p:nvPr/>
        </p:nvPicPr>
        <p:blipFill>
          <a:blip r:embed="rId4"/>
          <a:stretch/>
        </p:blipFill>
        <p:spPr>
          <a:xfrm>
            <a:off x="4800600" y="388620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alberta leg.jpg"/>
          <p:cNvPicPr/>
          <p:nvPr/>
        </p:nvPicPr>
        <p:blipFill>
          <a:blip r:embed="rId5"/>
          <a:stretch/>
        </p:blipFill>
        <p:spPr>
          <a:xfrm>
            <a:off x="6858000" y="388620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6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6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6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6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6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6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6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6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Implications – Education in Saskatchewan: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Education is a provincial responsibility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Provision for minority faith educa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Education is political – school division restructuring, funding, social policy issue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Scottish/American Influence – local control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Treatment of disadvantaged/minoritie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66" name="Content Placeholder 4" descr="kids.jpg"/>
          <p:cNvPicPr/>
          <p:nvPr/>
        </p:nvPicPr>
        <p:blipFill>
          <a:blip r:embed="rId3"/>
          <a:stretch/>
        </p:blipFill>
        <p:spPr>
          <a:xfrm>
            <a:off x="5029200" y="152388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kids2.jpg"/>
          <p:cNvPicPr/>
          <p:nvPr/>
        </p:nvPicPr>
        <p:blipFill>
          <a:blip r:embed="rId4"/>
          <a:stretch/>
        </p:blipFill>
        <p:spPr>
          <a:xfrm>
            <a:off x="5029200" y="3886200"/>
            <a:ext cx="3479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1066680" y="457200"/>
            <a:ext cx="731520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ERARCHY OF LEGAL CONTROL OVER EDUCATIONAL POLICY AND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2362320" y="17524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TITU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Section 93 &amp; Cana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Rights &amp; Free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1981080" y="2590920"/>
            <a:ext cx="2667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AT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katchewan Teachers’ Feder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katchewan Human Rights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Code of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th Criminal Justice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1371600" y="3962520"/>
            <a:ext cx="3022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Act, Section 37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g. The Education Regulations, 198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cher Certific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Regulatio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1066680" y="5181480"/>
            <a:ext cx="327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ON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g. Precedent – R v. Oakes, etc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principle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 loco parenti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1066680" y="601992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ULES &amp;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Straight Arrow Connector 9" descr=""/>
          <p:cNvPicPr/>
          <p:nvPr/>
        </p:nvPicPr>
        <p:blipFill>
          <a:blip r:embed="rId2"/>
          <a:stretch/>
        </p:blipFill>
        <p:spPr>
          <a:xfrm>
            <a:off x="3333600" y="5121360"/>
            <a:ext cx="3706920" cy="523800"/>
          </a:xfrm>
          <a:prstGeom prst="rect">
            <a:avLst/>
          </a:prstGeom>
          <a:ln w="0">
            <a:noFill/>
          </a:ln>
        </p:spPr>
      </p:pic>
      <p:pic>
        <p:nvPicPr>
          <p:cNvPr id="475" name="Straight Arrow Connector 12" descr=""/>
          <p:cNvPicPr/>
          <p:nvPr/>
        </p:nvPicPr>
        <p:blipFill>
          <a:blip r:embed="rId3"/>
          <a:stretch/>
        </p:blipFill>
        <p:spPr>
          <a:xfrm>
            <a:off x="6523200" y="4054320"/>
            <a:ext cx="517320" cy="1419480"/>
          </a:xfrm>
          <a:prstGeom prst="rect">
            <a:avLst/>
          </a:prstGeom>
          <a:ln w="0">
            <a:noFill/>
          </a:ln>
        </p:spPr>
      </p:pic>
      <p:cxnSp>
        <p:nvCxnSpPr>
          <p:cNvPr id="476" name="Straight Arrow Connector 14"/>
          <p:cNvCxnSpPr/>
          <p:nvPr/>
        </p:nvCxnSpPr>
        <p:spPr>
          <a:xfrm flipH="1" flipV="1">
            <a:off x="3962520" y="4266360"/>
            <a:ext cx="2667240" cy="2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77" name="Straight Arrow Connector 16"/>
          <p:cNvCxnSpPr/>
          <p:nvPr/>
        </p:nvCxnSpPr>
        <p:spPr>
          <a:xfrm flipH="1" flipV="1">
            <a:off x="4647600" y="3200040"/>
            <a:ext cx="1905480" cy="216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78" name="Straight Arrow Connector 20"/>
          <p:cNvCxnSpPr/>
          <p:nvPr/>
        </p:nvCxnSpPr>
        <p:spPr>
          <a:xfrm flipH="1" flipV="1">
            <a:off x="5104800" y="2208960"/>
            <a:ext cx="1448280" cy="2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479" name="Straight Arrow Connector 28" descr=""/>
          <p:cNvPicPr/>
          <p:nvPr/>
        </p:nvPicPr>
        <p:blipFill>
          <a:blip r:embed="rId4"/>
          <a:stretch/>
        </p:blipFill>
        <p:spPr>
          <a:xfrm>
            <a:off x="6443640" y="3067200"/>
            <a:ext cx="517680" cy="1193760"/>
          </a:xfrm>
          <a:prstGeom prst="rect">
            <a:avLst/>
          </a:prstGeom>
          <a:ln w="0">
            <a:noFill/>
          </a:ln>
        </p:spPr>
      </p:pic>
      <p:pic>
        <p:nvPicPr>
          <p:cNvPr id="480" name="Straight Arrow Connector 31" descr=""/>
          <p:cNvPicPr/>
          <p:nvPr/>
        </p:nvPicPr>
        <p:blipFill>
          <a:blip r:embed="rId5"/>
          <a:stretch/>
        </p:blipFill>
        <p:spPr>
          <a:xfrm>
            <a:off x="6370560" y="2073240"/>
            <a:ext cx="517680" cy="1114560"/>
          </a:xfrm>
          <a:prstGeom prst="rect">
            <a:avLst/>
          </a:prstGeom>
          <a:ln w="0">
            <a:noFill/>
          </a:ln>
        </p:spPr>
      </p:pic>
      <p:sp>
        <p:nvSpPr>
          <p:cNvPr id="481" name="Straight Connector 37"/>
          <p:cNvSpPr/>
          <p:nvPr/>
        </p:nvSpPr>
        <p:spPr>
          <a:xfrm>
            <a:off x="4724280" y="601992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41"/>
          <p:cNvSpPr/>
          <p:nvPr/>
        </p:nvSpPr>
        <p:spPr>
          <a:xfrm flipV="1">
            <a:off x="4724280" y="1676160"/>
            <a:ext cx="1828800" cy="434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43"/>
          <p:cNvSpPr/>
          <p:nvPr/>
        </p:nvSpPr>
        <p:spPr>
          <a:xfrm>
            <a:off x="6552360" y="1676520"/>
            <a:ext cx="2057400" cy="434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C:\Documents and Settings\Owner\Local Settings\Temporary Internet Files\Content.IE5\WX21GTW0\MCFL00366_0000[1].wmf"/>
          <p:cNvPicPr/>
          <p:nvPr/>
        </p:nvPicPr>
        <p:blipFill>
          <a:blip r:embed="rId6"/>
          <a:stretch/>
        </p:blipFill>
        <p:spPr>
          <a:xfrm>
            <a:off x="1600200" y="1828800"/>
            <a:ext cx="69372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C:\Documents and Settings\Owner\Local Settings\Temporary Internet Files\Content.IE5\WX21GTW0\MCFL00366_0000[1].wmf"/>
          <p:cNvPicPr/>
          <p:nvPr/>
        </p:nvPicPr>
        <p:blipFill>
          <a:blip r:embed="rId7"/>
          <a:stretch/>
        </p:blipFill>
        <p:spPr>
          <a:xfrm>
            <a:off x="1066680" y="3276720"/>
            <a:ext cx="69372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C:\Documents and Settings\Owner\Local Settings\Temporary Internet Files\Content.IE5\WX21GTW0\MCFL00366_0000[1].wmf"/>
          <p:cNvPicPr/>
          <p:nvPr/>
        </p:nvPicPr>
        <p:blipFill>
          <a:blip r:embed="rId8"/>
          <a:stretch/>
        </p:blipFill>
        <p:spPr>
          <a:xfrm>
            <a:off x="609480" y="4495680"/>
            <a:ext cx="69372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C:\Documents and Settings\Owner\Local Settings\Temporary Internet Files\Content.IE5\4NWD2U1B\MPj03628170000[1].jpg"/>
          <p:cNvPicPr/>
          <p:nvPr/>
        </p:nvPicPr>
        <p:blipFill>
          <a:blip r:embed="rId9"/>
          <a:stretch/>
        </p:blipFill>
        <p:spPr>
          <a:xfrm>
            <a:off x="1066680" y="274320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C:\Documents and Settings\Owner\Local Settings\Temporary Internet Files\Content.IE5\4NWD2U1B\MPj03628170000[1].jpg"/>
          <p:cNvPicPr/>
          <p:nvPr/>
        </p:nvPicPr>
        <p:blipFill>
          <a:blip r:embed="rId10"/>
          <a:stretch/>
        </p:blipFill>
        <p:spPr>
          <a:xfrm>
            <a:off x="609480" y="39625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77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770" fill="hold"/>
                                        <p:tgtEl>
                                          <p:spTgt spid="4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77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770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77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770" fill="hold"/>
                                        <p:tgtEl>
                                          <p:spTgt spid="4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77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770" fill="hold"/>
                                        <p:tgtEl>
                                          <p:spTgt spid="4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0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8000"/>
                            </p:stCondLst>
                            <p:childTnLst>
                              <p:par>
                                <p:cTn id="8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" y="1553760"/>
            <a:ext cx="894564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al issues are boring/non-political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is political – the founding of Canada,                     entry of Saskatchewan and Alberta into                  Confederation,  the last Ontario election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is a battleground for major social issues         including religion, family life education, creationism,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gay rights, etc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4" name="Picture 2" descr="C:\Documents and Settings\Owner\Local Settings\Temporary Internet Files\Content.IE5\YW5CV2IN\MCj04257920000[1].wmf"/>
          <p:cNvPicPr/>
          <p:nvPr/>
        </p:nvPicPr>
        <p:blipFill>
          <a:blip r:embed="rId3"/>
          <a:stretch/>
        </p:blipFill>
        <p:spPr>
          <a:xfrm>
            <a:off x="731520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Documents and Settings\Owner\Local Settings\Temporary Internet Files\Content.IE5\SVQSRMMS\MCj04039370000[1].wmf"/>
          <p:cNvPicPr/>
          <p:nvPr/>
        </p:nvPicPr>
        <p:blipFill>
          <a:blip r:embed="rId4"/>
          <a:stretch/>
        </p:blipFill>
        <p:spPr>
          <a:xfrm>
            <a:off x="7391520" y="289548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C:\Documents and Settings\Owner\Local Settings\Temporary Internet Files\Content.IE5\YW5CV2IN\MCj03536190000[1].wmf"/>
          <p:cNvPicPr/>
          <p:nvPr/>
        </p:nvPicPr>
        <p:blipFill>
          <a:blip r:embed="rId5"/>
          <a:stretch/>
        </p:blipFill>
        <p:spPr>
          <a:xfrm>
            <a:off x="7467480" y="4572000"/>
            <a:ext cx="1067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Quality Publicly Funded Educatio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anada funds quality public educatio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More typical – poorly funded public schools                  (Mexico) or limited access (China – 30% of           students have no access to secondary education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Wealthy attend superior privately funded                         school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9" name="Picture 4" descr="C:\Documents and Settings\Owner\Local Settings\Temporary Internet Files\Content.IE5\SVQSRMMS\MPj04225890000[1].jpg"/>
          <p:cNvPicPr/>
          <p:nvPr/>
        </p:nvPicPr>
        <p:blipFill>
          <a:blip r:embed="rId3"/>
          <a:stretch/>
        </p:blipFill>
        <p:spPr>
          <a:xfrm>
            <a:off x="6781680" y="15238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C:\Documents and Settings\Owner\Local Settings\Temporary Internet Files\Content.IE5\VSXLM9KM\MPj04276350000[1].jpg"/>
          <p:cNvPicPr/>
          <p:nvPr/>
        </p:nvPicPr>
        <p:blipFill>
          <a:blip r:embed="rId4"/>
          <a:stretch/>
        </p:blipFill>
        <p:spPr>
          <a:xfrm>
            <a:off x="6781680" y="3124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C:\Documents and Settings\Owner\Local Settings\Temporary Internet Files\Content.IE5\PIZ49X1L\MPj04422830000[1].jpg"/>
          <p:cNvPicPr/>
          <p:nvPr/>
        </p:nvPicPr>
        <p:blipFill>
          <a:blip r:embed="rId5"/>
          <a:stretch/>
        </p:blipFill>
        <p:spPr>
          <a:xfrm>
            <a:off x="6781680" y="48006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Role of Religion in Educatio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Religion and Education are closely linked –                   separate section in Canadian constitution,                      publicly funded minority faith school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anada Pragmatic – usually public education and religion separated (United States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Result – more Private Schools in other countrie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4" name="Picture 2" descr="C:\Documents and Settings\Owner\Local Settings\Temporary Internet Files\Content.IE5\A8FN2AXY\MCj04348480000[1].png"/>
          <p:cNvPicPr/>
          <p:nvPr/>
        </p:nvPicPr>
        <p:blipFill>
          <a:blip r:embed="rId3"/>
          <a:stretch/>
        </p:blipFill>
        <p:spPr>
          <a:xfrm>
            <a:off x="6772320" y="185724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58840" y="155412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a Provincial responsibility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is usually a National responsibility –             different provinces – different standard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Treatment of Minority/Disadvantaged Group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Need for focus on Human/Social Justice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7" name="Picture 2" descr="C:\Documents and Settings\Owner\Local Settings\Temporary Internet Files\Content.IE5\SVQSRMMS\MPj03856380000[1].jpg"/>
          <p:cNvPicPr/>
          <p:nvPr/>
        </p:nvPicPr>
        <p:blipFill>
          <a:blip r:embed="rId3"/>
          <a:stretch/>
        </p:blipFill>
        <p:spPr>
          <a:xfrm>
            <a:off x="7315200" y="1371600"/>
            <a:ext cx="1243080" cy="129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Documents and Settings\Owner\Local Settings\Temporary Internet Files\Content.IE5\YW5CV2IN\MPj04052240000[1].jpg"/>
          <p:cNvPicPr/>
          <p:nvPr/>
        </p:nvPicPr>
        <p:blipFill>
          <a:blip r:embed="rId4"/>
          <a:stretch/>
        </p:blipFill>
        <p:spPr>
          <a:xfrm>
            <a:off x="7238880" y="2819520"/>
            <a:ext cx="1371600" cy="1562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Owner\Local Settings\Temporary Internet Files\Content.IE5\YW5CV2IN\MPj04276110000[1].jpg"/>
          <p:cNvPicPr/>
          <p:nvPr/>
        </p:nvPicPr>
        <p:blipFill>
          <a:blip r:embed="rId5"/>
          <a:stretch/>
        </p:blipFill>
        <p:spPr>
          <a:xfrm>
            <a:off x="7238880" y="45720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89000" y="396720"/>
            <a:ext cx="8808840" cy="908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93720"/>
            <a:ext cx="86868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French Tradition – Education and the Church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nglish Tradition – Education and the church class-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based system                               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American Tradition – impact of religion, democracy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and equality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Scottish Tradition – democracy and equality, practical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urriculum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2" name="Picture 4" descr="C:\Documents and Settings\Owner\Local Settings\Temporary Internet Files\Content.IE5\YW5CV2IN\MPj04007970000[1].jpg"/>
          <p:cNvPicPr/>
          <p:nvPr/>
        </p:nvPicPr>
        <p:blipFill>
          <a:blip r:embed="rId3"/>
          <a:stretch/>
        </p:blipFill>
        <p:spPr>
          <a:xfrm>
            <a:off x="685800" y="25146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Owner\Local Settings\Temporary Internet Files\Content.IE5\VSXLM9KM\MCj04361800000[1].png"/>
          <p:cNvPicPr/>
          <p:nvPr/>
        </p:nvPicPr>
        <p:blipFill>
          <a:blip r:embed="rId4"/>
          <a:stretch/>
        </p:blipFill>
        <p:spPr>
          <a:xfrm>
            <a:off x="609480" y="3733920"/>
            <a:ext cx="1035000" cy="1085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:\Documents and Settings\Owner\Local Settings\Temporary Internet Files\Content.IE5\YW5CV2IN\MCFL00085_0000[1].wmf"/>
          <p:cNvPicPr/>
          <p:nvPr/>
        </p:nvPicPr>
        <p:blipFill>
          <a:blip r:embed="rId5"/>
          <a:stretch/>
        </p:blipFill>
        <p:spPr>
          <a:xfrm>
            <a:off x="609480" y="5105520"/>
            <a:ext cx="105264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C:\Documents and Settings\Owner\Local Settings\Temporary Internet Files\Content.IE5\A8FN2AXY\MPj04365770000[1].jpg"/>
          <p:cNvPicPr/>
          <p:nvPr/>
        </p:nvPicPr>
        <p:blipFill>
          <a:blip r:embed="rId6"/>
          <a:stretch/>
        </p:blipFill>
        <p:spPr>
          <a:xfrm>
            <a:off x="685800" y="144792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2"/>
          <a:stretch/>
        </p:blipFill>
        <p:spPr>
          <a:xfrm>
            <a:off x="195120" y="450720"/>
            <a:ext cx="8802720" cy="908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The Treaty of Paris (1763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Britain allows New France (Quebec) freedom of religion and language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of French population left with the Roman Catholic Church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British ruling and business classes establish minority schools for their childre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8" name="Picture 2" descr="C:\Documents and Settings\Owner\Local Settings\Temporary Internet Files\Content.IE5\PIZ49X1L\MPj04038640000[1].jpg"/>
          <p:cNvPicPr/>
          <p:nvPr/>
        </p:nvPicPr>
        <p:blipFill>
          <a:blip r:embed="rId3"/>
          <a:stretch/>
        </p:blipFill>
        <p:spPr>
          <a:xfrm>
            <a:off x="4648320" y="25146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American Loyalists – flee USA and settle in British North America (Canada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Loyalist Culture and Values Impact – respect for authority, commitment to British crown and culture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Mixed Values in Education: control by church (English) vs democratic &amp; egalitarian control (USA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anada – not like the USA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31" name="Picture 3" descr="C:\Documents and Settings\Owner\Local Settings\Temporary Internet Files\Content.IE5\WX21GTW0\MCj01500540000[1].wmf"/>
          <p:cNvPicPr/>
          <p:nvPr/>
        </p:nvPicPr>
        <p:blipFill>
          <a:blip r:embed="rId3"/>
          <a:stretch/>
        </p:blipFill>
        <p:spPr>
          <a:xfrm>
            <a:off x="5186520" y="2720880"/>
            <a:ext cx="32670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British leery of democracy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Close relationship between Church and State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Rebellions in Upper (Ont) &amp; Lower (Que) Canada in 1837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Lord Durham investigates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Sweeping changes recommended: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Combine the two colonies under one Governor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Educational changes – provision for minority faith schools (Catholic/Protestant)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34" name="Picture 2" descr="C:\Documents and Settings\Owner\Local Settings\Temporary Internet Files\Content.IE5\4NWD2U1B\MCj01498470000[1].wmf"/>
          <p:cNvPicPr/>
          <p:nvPr/>
        </p:nvPicPr>
        <p:blipFill>
          <a:blip r:embed="rId3"/>
          <a:stretch/>
        </p:blipFill>
        <p:spPr>
          <a:xfrm>
            <a:off x="5342040" y="2828880"/>
            <a:ext cx="2955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20:00:53Z</dcterms:created>
  <dc:creator>Your User Name</dc:creator>
  <dc:description/>
  <dc:language>en-US</dc:language>
  <cp:lastModifiedBy>Faculty of Education</cp:lastModifiedBy>
  <dcterms:modified xsi:type="dcterms:W3CDTF">2009-09-21T13:24:27Z</dcterms:modified>
  <cp:revision>45</cp:revision>
  <dc:subject/>
  <dc:title>The Historical and Constitutional Context of E</dc:title>
</cp:coreProperties>
</file>